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705-8CD4-4CB7-B05C-9A0C3B16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8E6-9612-405E-9540-8A768D71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F25-B3C4-40F8-91D7-E8C3ECFB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CE6-871C-460C-9B52-2960AB05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E048-338D-4E51-8998-2CE39695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05E4-65EC-4886-8C7D-F360F8B7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05F5-B65B-4480-B8E0-B867F8E6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8F87-DEBD-4796-A297-C9679924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9CE5-32C2-4A3D-ABBE-A8C83B61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B74E-70BB-4AAD-B8F4-EABF5F61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5057-CEEA-4F50-A158-3A7C9F6D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25B-280A-4928-BBC2-C101799A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9344-A2AF-42DA-9192-1E6DEDE3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09C7-C077-49AA-8189-E6E77372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E9DD-F06D-4D2B-B668-5B253C11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0ABD-37BE-43F7-AAFA-967EB5E9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D787-F0D7-4B5C-8029-F5681F5D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8B2-02D3-4BF5-9466-20FA0ADD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A3D-617E-47F4-8119-60B32AD9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E68-0D1A-4199-BDF1-7559722C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53B-F2A0-4ADE-946D-1EDFC222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449-675B-4BBD-BC92-96C207EC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830-F52A-489E-A540-9B80B82D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40A-FA73-4439-A49D-39CB5BEC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42CA-F4D1-48C8-978F-94CD672C65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B941-65CC-4241-A309-4C1C647DBA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вадратные неравенств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928520"/>
            <a:ext cx="67816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блемный вопрос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в жизни используются неравенства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Автор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руппа квадратных неравен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Хотим начать со слов персидско-таджикского поэта Рудаки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 тех пор как существует мирозданье,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акого нет, кто б не нуждался в знанье.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ой мы ни возьмем язык и век, 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гда стремится к знанью человек 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тивац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аходит ли применение эти неравенства в окружающем нас мире?! А может это просто прихоть математиков?! Наверно нет! Ведь всякое явление можно описать с помощью функции, а умения решать неравенства позволяют ответить на вопрос, при каких значениях аргумента эта функция положительна, а при каких отрицатель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предел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Неравен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ида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 +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b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+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&gt; 0, где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≠0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, b, 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некоторые числа, называются 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квадратны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 Black"/>
              </a:rPr>
              <a:t>Алгоритм решения неравенств второй степени с одной переменной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694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ведите неравенство к ви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0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отрите функц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пределите направление ветв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йдите точки пересечения параболы с осью абсцисс (для ни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х1и х2 найдите, решая уравнение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хематически постройте график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делите часть параболы, для котор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&gt;0 (y&lt;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Пример решения неравенств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.5х2+9х-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&l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ссмотрим функц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5х2+9х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Графиком функции является парабола, ветви которой направлены ввер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4. 5х2+9х-2=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1=-2; х2=1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24506" t="0" r="0" b="18268"/>
          <a:stretch/>
        </p:blipFill>
        <p:spPr>
          <a:xfrm>
            <a:off x="3924360" y="5261040"/>
            <a:ext cx="29512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7715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Теперь хотим рассказать где они применяются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642600"/>
            <a:ext cx="8305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, есть бедные люди и богаты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социальное неравен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им на работе платят меньш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им бо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шем классе 5 мальчиков и 20 девоч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же получается неравенст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вочек больше чем мальч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ются в магазине, например когда взвешивают что-нибуд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3" descr="рр.jpg"/>
          <p:cNvPicPr/>
          <p:nvPr/>
        </p:nvPicPr>
        <p:blipFill>
          <a:blip r:embed="rId1"/>
          <a:stretch/>
        </p:blipFill>
        <p:spPr>
          <a:xfrm>
            <a:off x="6429240" y="1071720"/>
            <a:ext cx="204660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м и д.bmp"/>
          <p:cNvPicPr/>
          <p:nvPr/>
        </p:nvPicPr>
        <p:blipFill>
          <a:blip r:embed="rId2"/>
          <a:stretch/>
        </p:blipFill>
        <p:spPr>
          <a:xfrm>
            <a:off x="7143840" y="2928960"/>
            <a:ext cx="1755720" cy="15904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весы.jpg"/>
          <p:cNvPicPr/>
          <p:nvPr/>
        </p:nvPicPr>
        <p:blipFill>
          <a:blip r:embed="rId3"/>
          <a:stretch/>
        </p:blipFill>
        <p:spPr>
          <a:xfrm>
            <a:off x="3143160" y="5143680"/>
            <a:ext cx="195264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7720" y="285480"/>
            <a:ext cx="800748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Наш выв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получили, что неравенства в нашей жизни присутствуют везде – на экране телевизора, в литературе, на работе, в магазинах, в поездах и самолетах,  в сфере досуга, при организации обучения детей, на автострадах и городских улицах, в жилых кварталах и дачных поселках, в семьях, на всех уровнях отношений с окружающими людьми, почти в любом общении. И от него никуда не де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math"/>
          <p:cNvPicPr/>
          <p:nvPr/>
        </p:nvPicPr>
        <p:blipFill>
          <a:blip r:embed="rId1"/>
          <a:stretch/>
        </p:blipFill>
        <p:spPr>
          <a:xfrm>
            <a:off x="1692360" y="531720"/>
            <a:ext cx="5904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9:10:12Z</dcterms:created>
  <dc:creator>Елена</dc:creator>
  <dc:description/>
  <dc:language>en-US</dc:language>
  <cp:lastModifiedBy>Nicolai</cp:lastModifiedBy>
  <dcterms:modified xsi:type="dcterms:W3CDTF">2011-06-09T12:04:45Z</dcterms:modified>
  <cp:revision>11</cp:revision>
  <dc:subject/>
  <dc:title>Квадратные неравенства</dc:title>
</cp:coreProperties>
</file>